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61E-D04A-4081-92A4-9A33A88B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62D-936B-459F-BE78-75B031E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D56-EEA0-4F37-BCED-F276A0A9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A6D-53EB-41C3-9783-9A3064E2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224-DCC9-47FF-8208-C9E6C8F6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65C-99B8-4FF3-8953-5D4F0A10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085-4751-442B-A8CB-B88512FE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64C-EE80-4BC7-BFAA-1D394023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711-65D2-4516-A100-22B712B7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924-AA46-47E2-A24A-7AF04F31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EB8-70B5-402F-9729-6A7E84C8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FEB-4455-4A73-9265-D138A6B5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C3FCABCE-C4C1-4C28-8A02-7952B9A918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33336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Lesson 8    Can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1322164131441531541595"/>
          <p:cNvPicPr/>
          <p:nvPr/>
        </p:nvPicPr>
        <p:blipFill>
          <a:blip r:embed="rId1"/>
          <a:stretch/>
        </p:blipFill>
        <p:spPr>
          <a:xfrm>
            <a:off x="1332000" y="1413000"/>
            <a:ext cx="6408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Exercis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4972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is is the flag of Can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is ______ and 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has a ______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7771439051441531541590"/>
          <p:cNvPicPr/>
          <p:nvPr/>
        </p:nvPicPr>
        <p:blipFill>
          <a:blip r:embed="rId1"/>
          <a:stretch/>
        </p:blipFill>
        <p:spPr>
          <a:xfrm>
            <a:off x="0" y="692280"/>
            <a:ext cx="4859280" cy="329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58920" y="501336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5013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59500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le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2874728191441531541639"/>
          <p:cNvPicPr/>
          <p:nvPr/>
        </p:nvPicPr>
        <p:blipFill>
          <a:blip r:embed="rId1"/>
          <a:stretch/>
        </p:blipFill>
        <p:spPr>
          <a:xfrm>
            <a:off x="0" y="0"/>
            <a:ext cx="4932360" cy="3295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378936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is is the flag of Ch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is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has five  ______     ______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65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551664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yellow       st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3336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 ______ about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 ______ they _____ _____ and French in Can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 also ______ the ______ _____ of Canada.  It’s Ottaw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24280"/>
            <a:ext cx="7848720" cy="1312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speak        English        capital    city            Canada       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33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476280"/>
            <a:ext cx="191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0920" y="33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8320" y="1197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spe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9440" y="1268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278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4040" y="26384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capital     c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8900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1. know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知道；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2. about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关于；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3. know about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了解关于……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4. city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城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5. English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英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6. French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法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7. the capital city of……            ……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的首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8. Ottawa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渥太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9. leaf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1322164131441531541595"/>
          <p:cNvPicPr/>
          <p:nvPr/>
        </p:nvPicPr>
        <p:blipFill>
          <a:blip r:embed="rId1"/>
          <a:srcRect l="8995" t="4485" r="8995" b="4485"/>
          <a:stretch/>
        </p:blipFill>
        <p:spPr>
          <a:xfrm>
            <a:off x="0" y="907920"/>
            <a:ext cx="5256360" cy="439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6753008531441531541600"/>
          <p:cNvPicPr/>
          <p:nvPr/>
        </p:nvPicPr>
        <p:blipFill>
          <a:blip r:embed="rId2"/>
          <a:srcRect l="19822" t="3754" r="17819" b="5493"/>
          <a:stretch/>
        </p:blipFill>
        <p:spPr>
          <a:xfrm>
            <a:off x="5796000" y="1341360"/>
            <a:ext cx="2448000" cy="324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3020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y friends Jenny and Danny live in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Canad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592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his is a map of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Canad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9863774151441531541619"/>
          <p:cNvPicPr/>
          <p:nvPr/>
        </p:nvPicPr>
        <p:blipFill>
          <a:blip r:embed="rId1"/>
          <a:srcRect l="0" t="5115" r="0" b="0"/>
          <a:stretch/>
        </p:blipFill>
        <p:spPr>
          <a:xfrm>
            <a:off x="0" y="333360"/>
            <a:ext cx="507672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96000" y="981000"/>
            <a:ext cx="27352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English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英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French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法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1322164131441531541595"/>
          <p:cNvPicPr/>
          <p:nvPr/>
        </p:nvPicPr>
        <p:blipFill>
          <a:blip r:embed="rId1"/>
          <a:srcRect l="8995" t="5946" r="8995" b="4485"/>
          <a:stretch/>
        </p:blipFill>
        <p:spPr>
          <a:xfrm>
            <a:off x="0" y="115920"/>
            <a:ext cx="525636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3357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Ottawa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渥太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437000"/>
            <a:ext cx="8137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I also know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the capital city of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 Ca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It’s  Ottaw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3429000"/>
            <a:ext cx="503280" cy="433440"/>
          </a:xfrm>
          <a:custGeom>
            <a:avLst/>
            <a:gdLst/>
            <a:ahLst/>
            <a:rect l="l" t="t" r="r" b="b"/>
            <a:pathLst>
              <a:path w="792" h="682">
                <a:moveTo>
                  <a:pt x="0" y="260"/>
                </a:moveTo>
                <a:lnTo>
                  <a:pt x="302" y="260"/>
                </a:lnTo>
                <a:lnTo>
                  <a:pt x="396" y="0"/>
                </a:lnTo>
                <a:lnTo>
                  <a:pt x="489" y="260"/>
                </a:lnTo>
                <a:lnTo>
                  <a:pt x="792" y="260"/>
                </a:lnTo>
                <a:lnTo>
                  <a:pt x="547" y="421"/>
                </a:lnTo>
                <a:lnTo>
                  <a:pt x="641" y="682"/>
                </a:lnTo>
                <a:lnTo>
                  <a:pt x="396" y="521"/>
                </a:lnTo>
                <a:lnTo>
                  <a:pt x="151" y="682"/>
                </a:lnTo>
                <a:lnTo>
                  <a:pt x="244" y="421"/>
                </a:lnTo>
                <a:lnTo>
                  <a:pt x="0" y="2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7771439051441531541590"/>
          <p:cNvPicPr/>
          <p:nvPr/>
        </p:nvPicPr>
        <p:blipFill>
          <a:blip r:embed="rId1"/>
          <a:stretch/>
        </p:blipFill>
        <p:spPr>
          <a:xfrm>
            <a:off x="0" y="189000"/>
            <a:ext cx="5580000" cy="378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581360"/>
            <a:ext cx="93963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The flag of Canad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is red and wh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a red leaf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1773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amous places in Can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著名的      地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5688" t="18922" r="6444" b="20585"/>
          <a:stretch/>
        </p:blipFill>
        <p:spPr>
          <a:xfrm>
            <a:off x="0" y="0"/>
            <a:ext cx="3851280" cy="282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630" t="15999" r="4630" b="15999"/>
          <a:stretch/>
        </p:blipFill>
        <p:spPr>
          <a:xfrm>
            <a:off x="0" y="4005360"/>
            <a:ext cx="3924360" cy="27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51280" y="836640"/>
            <a:ext cx="51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Niagara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a famous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aterfa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6028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尼亚加拉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869000"/>
            <a:ext cx="49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the CN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ow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very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005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加拿大国家电视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About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5264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1.It is famous waterfall.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2.It is a very tall tower.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3.They speak _____ and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4.The flag of Canada has a ____ o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5.It is the capital city.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0064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French                 ②Ottawa              ③leaf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④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Niagara Falls      ⑤CN Tower         ⑥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9079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256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256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3357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221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02:24:16Z</dcterms:created>
  <dc:creator/>
  <dc:description/>
  <dc:language>en-US</dc:language>
  <cp:lastModifiedBy/>
  <dcterms:modified xsi:type="dcterms:W3CDTF">2017-09-15T04:15:37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